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EB3-BF54-47BC-86A7-08118C88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91E-8B98-454B-8605-9DE18A5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A61-B908-48D9-9796-EEE6229B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AB4-0787-4318-894C-8EA6F027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316-EE59-445B-888A-88E3847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B3D-8E02-42E6-9882-44B8B32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021-FC5C-4CD9-AA22-5402F384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FEB-783A-47CA-B710-9EF814EE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165-671C-456D-A9F4-6E09F08C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898-7421-4016-AF96-4D13BA20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42F-50AE-4BD6-96F1-8E76F92E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8C5-BCC6-435D-9389-69ED646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F83-D67C-44BE-8D43-E4F3AE64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9:11:28Z</dcterms:created>
  <dc:creator>\</dc:creator>
  <dc:description/>
  <dc:language>en-US</dc:language>
  <cp:lastModifiedBy>\</cp:lastModifiedBy>
  <dcterms:modified xsi:type="dcterms:W3CDTF">2009-09-16T09:12:17Z</dcterms:modified>
  <cp:revision>1</cp:revision>
  <dc:subject/>
  <dc:title>Slide 1</dc:title>
</cp:coreProperties>
</file>